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0.jpeg" ContentType="image/jpeg"/>
  <Override PartName="/ppt/media/image40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84A-69D7-4A55-9C77-813FB611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508-191B-4BF8-A81B-9ECE1EBA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1E3E-EE00-4164-90DE-9D39316A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9327-75AF-4B02-B64E-0A2C6B95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101-8AF8-4A02-A11F-435DF82C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64B-A8CA-454F-A967-D27BAAC5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0B2-76DD-45BB-BFDD-E560590F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347-69B6-4733-B4D8-649810B6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4DC-83ED-4CB7-B0C6-5265D198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C48-7FE0-4973-AC9C-20C130A4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4AA-476B-4369-8EA3-DE7BAE9D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AF1-DF55-41EF-BD3A-56F5C72C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6718-7ACD-4DE9-B4AE-6F6BE009AA8B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7.jpeg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User\Desktop\Безымянный1.png"/>
          <p:cNvPicPr/>
          <p:nvPr/>
        </p:nvPicPr>
        <p:blipFill>
          <a:blip r:embed="rId1"/>
          <a:srcRect l="0" t="0" r="69345" b="54436"/>
          <a:stretch/>
        </p:blipFill>
        <p:spPr>
          <a:xfrm>
            <a:off x="49320" y="1440"/>
            <a:ext cx="9221760" cy="6872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5292720" y="2565360"/>
            <a:ext cx="3313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7704f"/>
                </a:solidFill>
                <a:latin typeface="Times New Roman"/>
                <a:ea typeface="Times New Roman"/>
              </a:rPr>
              <a:t>«Своя игра» 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2328840" y="334800"/>
            <a:ext cx="6742080" cy="269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4638600" y="5370480"/>
            <a:ext cx="3170160" cy="981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5230800" y="3436920"/>
            <a:ext cx="343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704f"/>
                </a:solidFill>
                <a:latin typeface="Monotype Corsiva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704f"/>
                </a:solidFill>
                <a:latin typeface="Monotype Corsiva"/>
              </a:rPr>
              <a:t>классный руководитель 5«Г» клас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704f"/>
                </a:solidFill>
                <a:latin typeface="Monotype Corsiva"/>
              </a:rPr>
              <a:t>Рыбальченко Екатерина Юрье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3936960" y="291960"/>
            <a:ext cx="46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704f"/>
                </a:solidFill>
                <a:latin typeface="Monotype Corsiva"/>
              </a:rPr>
              <a:t>Чувашская Республика            МБОУ «Гимназия 4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22320" y="9360"/>
            <a:ext cx="912168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395280" y="260280"/>
            <a:ext cx="856944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40 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i="1" lang="ru-RU" sz="2400" spc="-1" strike="noStrike">
                <a:solidFill>
                  <a:srgbClr val="00b050"/>
                </a:solidFill>
                <a:latin typeface="Verdana"/>
              </a:rPr>
              <a:t>Это растение растет вдоль дорог. Отсюда и его название. Оно не боится вытаптывания, потому что надежно укрепилось своим пучком корней, прижало к земле свои листья. Цветки у него невзрачные и крошечные, но каждое растение дает 60 тыс. семян, которые приклеиваются к ступням и разносятся по всему свету. Так оказалось оно вместе с европейцами и в Америке. Индейцы дали ему название «след бледнолицых». Назовите это растение</a:t>
            </a: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4530960" y="595800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(Подорожник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74680" y="5315040"/>
            <a:ext cx="2004840" cy="263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4"/>
          <a:stretch/>
        </p:blipFill>
        <p:spPr>
          <a:xfrm>
            <a:off x="1278000" y="1197000"/>
            <a:ext cx="5543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27000" y="34920"/>
            <a:ext cx="9129600" cy="68230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468360" y="404640"/>
            <a:ext cx="842472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30 баллов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Verdana"/>
              </a:rPr>
              <a:t>Птицы и насекомые, звери и люди издавна обходят жгучую красавицу стороной. Больно обжигает она того, кто хоть чуть-чуть прикоснулся к ней. Ведь на листьях и стеблях есть стрекательные волоски. Каждый волосок - маленький шприц, наполненный жгучей жидкостью. Вы узнали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4487040" y="5661000"/>
            <a:ext cx="22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Verdana"/>
              </a:rPr>
              <a:t>(Крапива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74680" y="5284800"/>
            <a:ext cx="2004840" cy="2627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4"/>
          <a:stretch/>
        </p:blipFill>
        <p:spPr>
          <a:xfrm>
            <a:off x="611280" y="1341360"/>
            <a:ext cx="5191200" cy="388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5"/>
          <a:stretch/>
        </p:blipFill>
        <p:spPr>
          <a:xfrm>
            <a:off x="5610240" y="1628640"/>
            <a:ext cx="31622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0"/>
            <a:ext cx="90615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395280" y="189000"/>
            <a:ext cx="828036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20 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Verdana"/>
              </a:rPr>
              <a:t>Это растение относится к числу старейших лекарственных средств. Целебные свойства растения были хорошо известны врачам уже при Петре I. Растет на болотах, лугах, по берегам рек и ручьев, в зарослях кустарников, лесах, на опушках. Одно из ее основных лечебных свойств - успокаивающее действие на нервную систему. Помогает она и при болезнях сердца. В аптеках продается и в виде настойки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4756680" y="5370480"/>
            <a:ext cx="23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(Валериан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55600" y="5315040"/>
            <a:ext cx="2006640" cy="26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4211640" y="981000"/>
            <a:ext cx="4392720" cy="3743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611280" y="1249200"/>
            <a:ext cx="32115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34920" y="1440"/>
            <a:ext cx="907740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"/>
          <p:cNvSpPr/>
          <p:nvPr/>
        </p:nvSpPr>
        <p:spPr>
          <a:xfrm>
            <a:off x="755640" y="549360"/>
            <a:ext cx="7704000" cy="38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10  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Verdana"/>
              </a:rPr>
              <a:t>Растение одна сторона которого теплая, нежная, вторая холодная, оно может излечить нас от кашля</a:t>
            </a: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Прямоугольник 1"/>
          <p:cNvSpPr/>
          <p:nvPr/>
        </p:nvSpPr>
        <p:spPr>
          <a:xfrm>
            <a:off x="4068360" y="4751280"/>
            <a:ext cx="33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/Мать -и- Мачеха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55600" y="5327640"/>
            <a:ext cx="2006640" cy="262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4"/>
          <a:stretch/>
        </p:blipFill>
        <p:spPr>
          <a:xfrm>
            <a:off x="971640" y="1662120"/>
            <a:ext cx="3706560" cy="2774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5"/>
          <a:stretch/>
        </p:blipFill>
        <p:spPr>
          <a:xfrm>
            <a:off x="5003640" y="1413000"/>
            <a:ext cx="3384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17640" y="0"/>
            <a:ext cx="90788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"/>
          <p:cNvSpPr/>
          <p:nvPr/>
        </p:nvSpPr>
        <p:spPr>
          <a:xfrm>
            <a:off x="1000080" y="404640"/>
            <a:ext cx="728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50 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1714680" y="1857240"/>
            <a:ext cx="5643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Verdana"/>
              </a:rPr>
              <a:t>Какое художественное произведение о кошках может служить рекламой страхования жилищ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1"/>
          <p:cNvSpPr/>
          <p:nvPr/>
        </p:nvSpPr>
        <p:spPr>
          <a:xfrm>
            <a:off x="2871000" y="4356000"/>
            <a:ext cx="53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. Маршак «Кошкин дом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68200" y="5327640"/>
            <a:ext cx="2005200" cy="2627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User\Desktop\1503317700.67.jpg"/>
          <p:cNvPicPr/>
          <p:nvPr/>
        </p:nvPicPr>
        <p:blipFill>
          <a:blip r:embed="rId3"/>
          <a:stretch/>
        </p:blipFill>
        <p:spPr>
          <a:xfrm>
            <a:off x="2208240" y="43164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11160" y="36360"/>
            <a:ext cx="9132840" cy="68216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755640" y="404640"/>
            <a:ext cx="7993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40 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Verdana"/>
              </a:rPr>
              <a:t>Какое речное животное пропагандировал Дуремар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1"/>
          <p:cNvSpPr/>
          <p:nvPr/>
        </p:nvSpPr>
        <p:spPr>
          <a:xfrm>
            <a:off x="3898440" y="500364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дицинскую пияв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315040"/>
            <a:ext cx="2006640" cy="2639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Users\User\Desktop\Без названия.jpg"/>
          <p:cNvPicPr/>
          <p:nvPr/>
        </p:nvPicPr>
        <p:blipFill>
          <a:blip r:embed="rId3"/>
          <a:stretch/>
        </p:blipFill>
        <p:spPr>
          <a:xfrm>
            <a:off x="809640" y="1674720"/>
            <a:ext cx="4402080" cy="2475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User\Desktop\images (1).jpg"/>
          <p:cNvPicPr/>
          <p:nvPr/>
        </p:nvPicPr>
        <p:blipFill>
          <a:blip r:embed="rId4"/>
          <a:stretch/>
        </p:blipFill>
        <p:spPr>
          <a:xfrm>
            <a:off x="5508720" y="1773360"/>
            <a:ext cx="2705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30240" y="34920"/>
            <a:ext cx="9129600" cy="68230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"/>
          <p:cNvSpPr/>
          <p:nvPr/>
        </p:nvSpPr>
        <p:spPr>
          <a:xfrm>
            <a:off x="684360" y="620640"/>
            <a:ext cx="69199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30 баллов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Verdana"/>
              </a:rPr>
              <a:t>Какое растение способно исполнять желания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оугольник 1"/>
          <p:cNvSpPr/>
          <p:nvPr/>
        </p:nvSpPr>
        <p:spPr>
          <a:xfrm>
            <a:off x="2843280" y="472428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ветик-семицветик из рассказа В. Катае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284800"/>
            <a:ext cx="200664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Users\User\Desktop\images (2).jpg"/>
          <p:cNvPicPr/>
          <p:nvPr/>
        </p:nvPicPr>
        <p:blipFill>
          <a:blip r:embed="rId3"/>
          <a:stretch/>
        </p:blipFill>
        <p:spPr>
          <a:xfrm>
            <a:off x="4500720" y="765000"/>
            <a:ext cx="4265280" cy="259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User\Desktop\Без названия (2).jpg"/>
          <p:cNvPicPr/>
          <p:nvPr/>
        </p:nvPicPr>
        <p:blipFill>
          <a:blip r:embed="rId4"/>
          <a:stretch/>
        </p:blipFill>
        <p:spPr>
          <a:xfrm>
            <a:off x="684360" y="1409760"/>
            <a:ext cx="36003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"/>
          <p:cNvSpPr/>
          <p:nvPr/>
        </p:nvSpPr>
        <p:spPr>
          <a:xfrm>
            <a:off x="498600" y="260280"/>
            <a:ext cx="820872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20 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Verdana"/>
              </a:rPr>
              <a:t>Какие насекомые не захотели поделиться с Винни-Пухом своим продуктом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4185360" y="515772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че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357880"/>
            <a:ext cx="2006640" cy="262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User\Desktop\Без названия (1).jpg"/>
          <p:cNvPicPr/>
          <p:nvPr/>
        </p:nvPicPr>
        <p:blipFill>
          <a:blip r:embed="rId3"/>
          <a:stretch/>
        </p:blipFill>
        <p:spPr>
          <a:xfrm>
            <a:off x="900000" y="1484280"/>
            <a:ext cx="5302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"/>
          <p:cNvSpPr/>
          <p:nvPr/>
        </p:nvSpPr>
        <p:spPr>
          <a:xfrm>
            <a:off x="1042920" y="1305000"/>
            <a:ext cx="7201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10 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Verdana"/>
              </a:rPr>
              <a:t>Какой кот постоянно носит очки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3203640" y="4927680"/>
            <a:ext cx="52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т Базилио, А. Толстой «Буратино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273640"/>
            <a:ext cx="2006640" cy="2627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Users\User\Desktop\images (3).jpg"/>
          <p:cNvPicPr/>
          <p:nvPr/>
        </p:nvPicPr>
        <p:blipFill>
          <a:blip r:embed="rId3"/>
          <a:stretch/>
        </p:blipFill>
        <p:spPr>
          <a:xfrm>
            <a:off x="5692680" y="620640"/>
            <a:ext cx="2808360" cy="4235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User\Desktop\images (4).jpg"/>
          <p:cNvPicPr/>
          <p:nvPr/>
        </p:nvPicPr>
        <p:blipFill>
          <a:blip r:embed="rId4"/>
          <a:stretch/>
        </p:blipFill>
        <p:spPr>
          <a:xfrm>
            <a:off x="1619280" y="2114640"/>
            <a:ext cx="36417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20520"/>
            <a:ext cx="9093240" cy="68374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3"/>
          <p:cNvSpPr/>
          <p:nvPr/>
        </p:nvSpPr>
        <p:spPr>
          <a:xfrm>
            <a:off x="826920" y="836640"/>
            <a:ext cx="727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 10 до 49 баллов. Возьмите красный кружок.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ы, наверное, любите природу. Но вы так мало о ней знаете…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ам нужно много изучать и узнавать. А пока мы можем порадоваться за приро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 50 до 99 баллов. Возьмите желтый кружок.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ы много знаете о природе, и хотели бы ей помочь. Но ваши знания неполные. Вы сами того не желая, можете причинить ей вред. Больше читайте, говорите со знающими людьми. Будьте осторожны и внимательны. Не причиняйте природе вре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 100 до 450 баллов. Возьмите зеленый кружок.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Если бы все были такими, как вы, то не страдали бы наши леса и реки от неумелого вмешательства. Вы не только знаете много о природе, но и умеете её охранять. Молодцы, не останавливайтесь, идите дальше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583240"/>
            <a:ext cx="17924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12600" y="27000"/>
            <a:ext cx="9139320" cy="6831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Своя игра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836640"/>
          <a:ext cx="8604000" cy="5759280"/>
        </p:xfrm>
        <a:graphic>
          <a:graphicData uri="http://schemas.openxmlformats.org/drawingml/2006/table">
            <a:tbl>
              <a:tblPr/>
              <a:tblGrid>
                <a:gridCol w="2709720"/>
                <a:gridCol w="955800"/>
                <a:gridCol w="1307880"/>
                <a:gridCol w="1379520"/>
                <a:gridCol w="1235160"/>
                <a:gridCol w="1015920"/>
              </a:tblGrid>
              <a:tr h="1981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«Экологическая размин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889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"Узнай это растение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888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"Знатоки природы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pic>
        <p:nvPicPr>
          <p:cNvPr id="50" name="Picture 33" descr="C:\Users\User\Desktop\images (1).jpg"/>
          <p:cNvPicPr/>
          <p:nvPr/>
        </p:nvPicPr>
        <p:blipFill>
          <a:blip r:embed="rId17"/>
          <a:stretch/>
        </p:blipFill>
        <p:spPr>
          <a:xfrm>
            <a:off x="1262160" y="3700440"/>
            <a:ext cx="79200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C:\Users\User\Desktop\2.jpg"/>
          <p:cNvPicPr/>
          <p:nvPr/>
        </p:nvPicPr>
        <p:blipFill>
          <a:blip r:embed="rId18"/>
          <a:stretch/>
        </p:blipFill>
        <p:spPr>
          <a:xfrm>
            <a:off x="871560" y="1914480"/>
            <a:ext cx="1378080" cy="177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C:\Users\User\Desktop\images.jpg"/>
          <p:cNvPicPr/>
          <p:nvPr/>
        </p:nvPicPr>
        <p:blipFill>
          <a:blip r:embed="rId19"/>
          <a:stretch/>
        </p:blipFill>
        <p:spPr>
          <a:xfrm>
            <a:off x="1074600" y="5487840"/>
            <a:ext cx="89712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611280" y="1041480"/>
          <a:ext cx="7993080" cy="4116240"/>
        </p:xfrm>
        <a:graphic>
          <a:graphicData uri="http://schemas.openxmlformats.org/drawingml/2006/table">
            <a:tbl>
              <a:tblPr/>
              <a:tblGrid>
                <a:gridCol w="2520720"/>
                <a:gridCol w="1871640"/>
                <a:gridCol w="1440000"/>
                <a:gridCol w="1368360"/>
                <a:gridCol w="792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ан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«Экологическая размин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"Узнай это растение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"Знатоки природы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40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273640"/>
            <a:ext cx="2006640" cy="26272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900000" y="47628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РШРУТНЫЙ ЛИ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12600" y="-9360"/>
            <a:ext cx="9132840" cy="686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85840" y="357120"/>
            <a:ext cx="85010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Знатоки природы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теперь - викторина по литературным произведениям и мультфильмам. Ее герои - животные и раст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libri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Какое художественное произведение о кошках может служить рекламой страхования жилища? (С. Маршак «Кошкин дом»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libri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Какой кот постоянно носит очки? (Кот Базилио, А. Толстой «Буратино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libri"/>
              </a:rPr>
              <a:t>4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Какое речное животное пропагандировал Дуремар? (Медицинскую пиявку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libri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Какие насекомые не захотели поделиться с Винни-Пухом своим продуктом? (Пчел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libri"/>
              </a:rPr>
              <a:t>30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кое растение способно исполнять желания? (Цветик-семицветик из рассказа В. Катаева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357880"/>
            <a:ext cx="20066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28440" y="17640"/>
            <a:ext cx="9056880" cy="68403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7"/>
          <p:cNvSpPr/>
          <p:nvPr/>
        </p:nvSpPr>
        <p:spPr>
          <a:xfrm>
            <a:off x="179280" y="189000"/>
            <a:ext cx="8425080" cy="58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Verdana"/>
              </a:rPr>
              <a:t>"Узнай это растение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Verdana"/>
              </a:rPr>
              <a:t>Очень многие растения, которые нас окружают, мы называем сорняками. А ведь многие из них являются лекарственны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Verdana"/>
              </a:rPr>
              <a:t> </a:t>
            </a:r>
            <a:r>
              <a:rPr b="0" lang="ru-RU" sz="1200" spc="-1" strike="noStrike">
                <a:solidFill>
                  <a:srgbClr val="7030a0"/>
                </a:solidFill>
                <a:latin typeface="Verdana"/>
              </a:rPr>
              <a:t>50.Это растение - великан. У него огромные добродушные листья и корзинки плодов с семенами. Плоды имеют шипы-крючочки, с помощью которых цепляются за одежду людей и шерсть животных. Так и расселяются по всей Земле. По подобию таких шипов люди придумали застежку-липучку. А корни этого растения используют в парфюмерии и в медицине. Что это за растение? (Репейник, он же - лопух.) А какие выражения вы знаете, в которых используется название этого растения? («Пристал, как репейник», «Вот лопух!»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Verdana"/>
              </a:rPr>
              <a:t>40. Это растение растет вдоль дорог. Отсюда и его название. Оно не боится вытаптывания, потому что надежно укрепилось своим пучком корней, прижало к земле свои листья. Цветки у него невзрачные и крошечные, но каждое растение дает 60 тыс. семян, которые приклеиваются к ступням и разносятся по всему свету. Так оказалось оно вместе с европейцами и в Америке. Индейцы дали ему название «след бледнолицых». Назовите это растение. (Подорожник.) Как его используют люди? (Для обработки ран, порезов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Verdana"/>
              </a:rPr>
              <a:t>30.Птицы и насекомые, звери и люди издавна обходят жгучую красавицу стороной. Больно обжигает она того, кто хоть чуть-чуть прикоснулся к ней. Ведь на листьях и стеблях есть стрекательные волоски. Каждый волосок - маленький шприц, наполненный жгучей жидкостью. Вы узнали? (Крапива.) Правильно, крапива. Как ни странно, есть за что людям благодарить ее. Много вкусных и полезных блюд можно приготовить из молодой крапивы. Ведь в ее листьях находится в 2 раза больше витамина С, чем в черной смородине. Крапива улучшает состав крови, останавливает кровотечение. Одна из бабочек названа в честь своей кормилицы - крапивниц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Verdana"/>
              </a:rPr>
              <a:t>20.</a:t>
            </a:r>
            <a:r>
              <a:rPr b="0" lang="ru-RU" sz="1200" spc="-1" strike="noStrike">
                <a:solidFill>
                  <a:srgbClr val="7030a0"/>
                </a:solidFill>
                <a:latin typeface="Verdana"/>
              </a:rPr>
              <a:t> Это растение относится к числу старейших лекарственных средств. Целебные свойства растения были хорошо известны врачам уже при Петре I. Растет на болотах, лугах, по берегам рек и ручьев, в зарослях кустарников, лесах, на опушках. Одно из ее основных лечебных свойств - успокаивающее действие на нервную систему. Помогает она и при болезнях сердца. В аптеках продается и в виде настойки. (Валериана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Verdana"/>
              </a:rPr>
              <a:t>10. Растение одна сторона которого теплая, нежная, вторая холодная, оно может излечить нас от кашля? /Мать -и- Мачеха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748480"/>
            <a:ext cx="200664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23640" y="26028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Экологическая размин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10.Почему в жару собака высовывает язык, а лошадь - нет? (У собаки на коже нет потовых желе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20.Лесник весной увидел, что кора деревьев обгрызена зайцами на высоте 1,5 метров от земли. Как это могло произойти? (Зимой в лесу глубокий сне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30.Почему утки, гуси с особенным удовольствием купаются в сильные морозы? (Температура воды даже в сильный мороз не бывает ниже +3 градусов, поэтому в воде они греютс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40.Почему соловьи осенью улетают на юг, а, например, воробьи – нет? (Воробьи могут зимой добыть пищу, а соловьи питаются насекомы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50.Назовите причины осеннего листопада (Растения избавляются от вредных веществ, защищаются от обезвоживания, избегают поломки ветвей зимой из-за тяжести снег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55600" y="5675400"/>
            <a:ext cx="200664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27000"/>
            <a:ext cx="9110520" cy="683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611280" y="1041480"/>
          <a:ext cx="7993080" cy="4116240"/>
        </p:xfrm>
        <a:graphic>
          <a:graphicData uri="http://schemas.openxmlformats.org/drawingml/2006/table">
            <a:tbl>
              <a:tblPr/>
              <a:tblGrid>
                <a:gridCol w="2520720"/>
                <a:gridCol w="1871640"/>
                <a:gridCol w="1440000"/>
                <a:gridCol w="1368360"/>
                <a:gridCol w="792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ан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«Экологическая размин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"Узнай это растение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"Знатоки природы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4" descr="C:\Users\User\Desktop\раб матер 1 сент\4.jpg"/>
          <p:cNvPicPr/>
          <p:nvPr/>
        </p:nvPicPr>
        <p:blipFill>
          <a:blip r:embed="rId2"/>
          <a:stretch/>
        </p:blipFill>
        <p:spPr>
          <a:xfrm>
            <a:off x="201600" y="5376960"/>
            <a:ext cx="2005200" cy="2633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900000" y="47628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РШРУТНЫЙ ЛИ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6480" y="0"/>
            <a:ext cx="9177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360360" y="549360"/>
            <a:ext cx="849636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50 баллов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Verdana"/>
              </a:rPr>
              <a:t>Назовите причины осеннего листопада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2627280" y="3860640"/>
            <a:ext cx="57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тения избавляются от вредных веществ, защищаются от обезвоживания, избегают поломки ветвей зимой из-за тяжести снег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476280" y="5241960"/>
            <a:ext cx="20048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106200" y="907920"/>
            <a:ext cx="893160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40 баллов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Verdana"/>
              </a:rPr>
              <a:t>Почему соловьи осенью улетают на юг, а воробьи – нет</a:t>
            </a:r>
            <a:r>
              <a:rPr b="1" i="1" lang="ru-RU" sz="48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2916360" y="45813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робьи могут зимой добыть пищу, а соловьи питаются насекомы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55600" y="5261040"/>
            <a:ext cx="20066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179280" y="333360"/>
            <a:ext cx="86058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30 баллов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Почему утки, гуси с особенным удовольствием купаются в сильные морозы</a:t>
            </a: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2484360" y="422748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оды даже в сильный мороз не бывает ниже +3 градусов, поэтому в воде они грею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55600" y="5315040"/>
            <a:ext cx="20066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0" y="3240"/>
            <a:ext cx="9072720" cy="6854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58920" y="333360"/>
            <a:ext cx="8424720" cy="40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20 баллов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Verdana"/>
              </a:rPr>
              <a:t>Лесник весной увидел, что кора деревьев обгрызена зайцами на высоте 1,5 метров от земли. Как это могло произойти</a:t>
            </a: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3471840" y="5199120"/>
            <a:ext cx="50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имой в лесу глубокий сне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55600" y="5327640"/>
            <a:ext cx="20066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468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755640" y="981000"/>
            <a:ext cx="74167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10 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Почему в жару собака высовывает язык, а лошадь - нет</a:t>
            </a: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2556000" y="4797360"/>
            <a:ext cx="61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собаки на коже нет потовых желе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98440" y="5273640"/>
            <a:ext cx="20066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:\Users\User\Desktop\Безымянный.png"/>
          <p:cNvPicPr/>
          <p:nvPr/>
        </p:nvPicPr>
        <p:blipFill>
          <a:blip r:embed="rId1"/>
          <a:srcRect l="0" t="0" r="0" b="28822"/>
          <a:stretch/>
        </p:blipFill>
        <p:spPr>
          <a:xfrm>
            <a:off x="2232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324000" y="189000"/>
            <a:ext cx="8569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50 баллов 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Verdana"/>
              </a:rPr>
              <a:t>Это растение - великан. У него огромные добродушные листья и корзинки плодов с семенами. Плоды имеют шипы-крючочки, с помощью которых цепляются за одежду людей и шерсть животных. Так и расселяются по всей Земле. По подобию таких шипов люди придумали застежку-липучку. А корни этого растения используют в парфюмерии и в медицине. Что это за растение</a:t>
            </a:r>
            <a:r>
              <a:rPr b="1" i="1" lang="ru-RU" sz="54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3786840" y="518796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(Репейник, он же - лопух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4" descr="C:\Users\User\Desktop\раб матер 1 сент\4.jpg"/>
          <p:cNvPicPr/>
          <p:nvPr/>
        </p:nvPicPr>
        <p:blipFill>
          <a:blip r:embed="rId3"/>
          <a:stretch/>
        </p:blipFill>
        <p:spPr>
          <a:xfrm>
            <a:off x="268200" y="5315040"/>
            <a:ext cx="2005200" cy="2639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C:\Users\User\Desktop\8.jpg"/>
          <p:cNvPicPr/>
          <p:nvPr/>
        </p:nvPicPr>
        <p:blipFill>
          <a:blip r:embed="rId4"/>
          <a:stretch/>
        </p:blipFill>
        <p:spPr>
          <a:xfrm>
            <a:off x="324000" y="404640"/>
            <a:ext cx="6840360" cy="477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5"/>
          <a:stretch/>
        </p:blipFill>
        <p:spPr>
          <a:xfrm>
            <a:off x="5775480" y="1125360"/>
            <a:ext cx="30445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09:21:12Z</dcterms:created>
  <dc:creator>Guest</dc:creator>
  <dc:description/>
  <dc:language>en-US</dc:language>
  <cp:lastModifiedBy>User</cp:lastModifiedBy>
  <cp:lastPrinted>2019-08-31T18:56:10Z</cp:lastPrinted>
  <dcterms:modified xsi:type="dcterms:W3CDTF">2019-10-17T21:36:21Z</dcterms:modified>
  <cp:revision>44</cp:revision>
  <dc:subject/>
  <dc:title>Слайд 1</dc:title>
</cp:coreProperties>
</file>